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0B1C0-F593-41B1-A58A-3BB96D67B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F4CE4-5F77-47D3-9A95-FAF137976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1FB20-65E8-4052-A5B0-B2179BBCB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47304-89F1-4481-AFE5-567674914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F079A-F013-4CFE-A578-AB941E92C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31ECF-C94B-400E-8D24-BFC79B20A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16169-B1FA-42D1-B72B-87022D4E9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6998A-6327-4269-AFD4-064A5FF18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79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8B5A5-45BE-49FA-B74A-1A0C92E71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FF68C-E3BD-426D-AB29-38B26B6A7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BCD5A-6025-43B3-B460-58B70BF18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A1B0F-F2E8-456C-80CC-D6ED6AB84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B3D4-CBFF-420C-9F2C-901DBB1A25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10 Review</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ber 29,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Describe implicit and explicit conclusions.  Discuss when each might be appropriate </a:t>
            </a:r>
            <a:endParaRPr b="0" lang="en-US" sz="3200" spc="-1" strike="noStrike">
              <a:solidFill>
                <a:srgbClr val="000000"/>
              </a:solidFill>
              <a:latin typeface="Arial"/>
            </a:endParaRPr>
          </a:p>
        </p:txBody>
      </p:sp>
      <p:sp>
        <p:nvSpPr>
          <p:cNvPr id="44"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cit conclusio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a hard-sell strate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sage is directly stat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it conclus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a soft-sell strate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persuadees to reach their own co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20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Discuss the effect of quality vs. the quantity of arguments in terms of the Elaboration Likelihood Model.  Explain what Petty and Cacioppo discovered in their research about involved student vs. uninvolved student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6" name="PlaceHolder 2"/>
          <p:cNvSpPr>
            <a:spLocks noGrp="1"/>
          </p:cNvSpPr>
          <p:nvPr>
            <p:ph/>
          </p:nvPr>
        </p:nvSpPr>
        <p:spPr>
          <a:xfrm>
            <a:off x="457200" y="2438280"/>
            <a:ext cx="8305920" cy="3687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M says that there are two routes to persuasion: peripheral and centr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antity of arguments may be a peripheral cl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d students are more likely to scrutinize the message than uninvolved 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uninvolved students, quality didn’t matter, but quantity d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Explain the relationship between repetition and persuasion, referencing Petty and Cacioppo’s study and mere exposure theory. </a:t>
            </a:r>
            <a:endParaRPr b="0" lang="en-US" sz="3200" spc="-1" strike="noStrike">
              <a:solidFill>
                <a:srgbClr val="000000"/>
              </a:solidFill>
              <a:latin typeface="Arial"/>
            </a:endParaRPr>
          </a:p>
        </p:txBody>
      </p:sp>
      <p:sp>
        <p:nvSpPr>
          <p:cNvPr id="4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e exposure theory: familiar objects are more liked than unfamiliar ones</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 repetition affects reactions to a persuasive message in two ways:</a:t>
            </a:r>
            <a:endParaRPr b="0" lang="en-US" sz="3200" spc="-1" strike="noStrike">
              <a:solidFill>
                <a:srgbClr val="000000"/>
              </a:solidFill>
              <a:latin typeface="Arial"/>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tition increases the ability to comprehend a message</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understanding the message, repetition becomes tedious, leading to the rejection of the mess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Explain the primacy effect and the recency effect.</a:t>
            </a:r>
            <a:endParaRPr b="0" lang="en-US" sz="3600" spc="-1" strike="noStrike">
              <a:solidFill>
                <a:srgbClr val="000000"/>
              </a:solidFill>
              <a:latin typeface="Arial"/>
            </a:endParaRPr>
          </a:p>
        </p:txBody>
      </p:sp>
      <p:sp>
        <p:nvSpPr>
          <p:cNvPr id="5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cy effect: first speaker has an advant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ncy effect: last speaker has an advant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Explain the difference between refutational two sided messages and nonrefutational two sided messages. </a:t>
            </a:r>
            <a:endParaRPr b="0" lang="en-US" sz="3200" spc="-1" strike="noStrike">
              <a:solidFill>
                <a:srgbClr val="000000"/>
              </a:solidFill>
              <a:latin typeface="Arial"/>
            </a:endParaRPr>
          </a:p>
        </p:txBody>
      </p:sp>
      <p:sp>
        <p:nvSpPr>
          <p:cNvPr id="52"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types of two-sided messag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 attempt is made to refute the message's opposing arguments, the two-sided message is termed "two-sided nonrefutational."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re is an attempt to refute the message, it is termed "two-sided refutational."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sided refutational messages are the most effectiv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Describe inoculation and forewarning.  What effect do they have?</a:t>
            </a:r>
            <a:endParaRPr b="0" lang="en-US" sz="3200" spc="-1" strike="noStrike">
              <a:solidFill>
                <a:srgbClr val="000000"/>
              </a:solidFill>
              <a:latin typeface="Arial"/>
            </a:endParaRPr>
          </a:p>
        </p:txBody>
      </p:sp>
      <p:sp>
        <p:nvSpPr>
          <p:cNvPr id="54"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the steps of effective inocul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 the receiver of the impending attack.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weak attack.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receiver to actively defend the attitude.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warning makes the audience aware of a possible attac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imply warn people they will hear a message intended to persuade th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 people by telling them the topic and posi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14:55:15Z</dcterms:created>
  <dc:creator>nuhs</dc:creator>
  <dc:description/>
  <dc:language>en-US</dc:language>
  <cp:lastModifiedBy>nuhs</cp:lastModifiedBy>
  <dcterms:modified xsi:type="dcterms:W3CDTF">2007-10-29T18:08:36Z</dcterms:modified>
  <cp:revision>3</cp:revision>
  <dc:subject/>
  <dc:title>Chapter 10 Review</dc:title>
</cp:coreProperties>
</file>